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5D4-8258-4DF1-92D6-1F46AD99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359-02E0-4E2B-A4ED-E571AC2C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C87-39D1-43CF-B4F3-3A79EC24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914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4040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0A6-E9EA-4DB8-B994-B63CFB50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AE4-1CB5-42F8-A303-46CFD831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649-FAF2-4632-9136-806AF3A2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BC7-1814-4790-AF5B-0C46A168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EE5-F75D-4C69-842C-FF1A0D34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B9E-E9B5-45E7-9666-8C250298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4A8-F5DD-4704-B532-C8A3117C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40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2E6-BA38-4B6B-970A-CAC5BB84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91440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040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5F9-B211-4EEB-8A54-5A346E13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7EAC-BD04-4786-9A81-91374AB65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aw.cs.berkeley.edu/texpoint" TargetMode="External"/><Relationship Id="rId2" Type="http://schemas.openxmlformats.org/officeDocument/2006/relationships/hyperlink" Target="http://raw.cs.berkeley.edu/texpoint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aw.cs.berkeley.edu/TexPoint" TargetMode="External"/><Relationship Id="rId2" Type="http://schemas.openxmlformats.org/officeDocument/2006/relationships/hyperlink" Target="http://raw.cs.berkeley.edu/TexPoint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Poi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LaTeX Add-in for Powerpoi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ion 2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rge Necu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cula@cs.berkeley.e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y 1, 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scellaneous 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95360" y="1676520"/>
          <a:ext cx="8153280" cy="5024160"/>
        </p:xfrm>
        <a:graphic>
          <a:graphicData uri="http://schemas.openxmlformats.org/drawingml/2006/table">
            <a:tbl>
              <a:tblPr/>
              <a:tblGrid>
                <a:gridCol w="1838160"/>
                <a:gridCol w="409680"/>
                <a:gridCol w="457200"/>
                <a:gridCol w="2057400"/>
                <a:gridCol w="457200"/>
                <a:gridCol w="380880"/>
                <a:gridCol w="1524240"/>
                <a:gridCol w="457200"/>
                <a:gridCol w="57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s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acktriangle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gs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b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ack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ackpar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ackloz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t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z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sured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`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p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520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nary 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95360" y="1676520"/>
          <a:ext cx="8153280" cy="468936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609480"/>
                <a:gridCol w="1866960"/>
                <a:gridCol w="533160"/>
                <a:gridCol w="419400"/>
                <a:gridCol w="1447560"/>
                <a:gridCol w="685800"/>
                <a:gridCol w="685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l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r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ll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mi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c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c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mi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m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gtriangle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d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gtriangle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gci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le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g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le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dag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all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a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e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sup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Binary 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95360" y="1676520"/>
          <a:ext cx="8153280" cy="468936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609480"/>
                <a:gridCol w="1714320"/>
                <a:gridCol w="495360"/>
                <a:gridCol w="609840"/>
                <a:gridCol w="1447560"/>
                <a:gridCol w="685800"/>
                <a:gridCol w="685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sh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wt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@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se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supse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D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d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`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f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subse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tr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g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c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treqq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y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l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set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ccurly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520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binary 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95360" y="1676520"/>
          <a:ext cx="8153280" cy="4689360"/>
        </p:xfrm>
        <a:graphic>
          <a:graphicData uri="http://schemas.openxmlformats.org/drawingml/2006/table">
            <a:tbl>
              <a:tblPr/>
              <a:tblGrid>
                <a:gridCol w="1638360"/>
                <a:gridCol w="533160"/>
                <a:gridCol w="343080"/>
                <a:gridCol w="1714320"/>
                <a:gridCol w="495360"/>
                <a:gridCol w="419040"/>
                <a:gridCol w="1981440"/>
                <a:gridCol w="457200"/>
                <a:gridCol w="57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c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vd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acktriangle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d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mp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acktriangle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qsl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triangle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tr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eqg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d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tr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singdots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slant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ci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sim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rox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ck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@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g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eqd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lyeqsu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lelef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w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s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`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mp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lyeqpr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tchf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slantg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triangle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ref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trd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binary 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95360" y="1295280"/>
          <a:ext cx="8153280" cy="4952880"/>
        </p:xfrm>
        <a:graphic>
          <a:graphicData uri="http://schemas.openxmlformats.org/drawingml/2006/table">
            <a:tbl>
              <a:tblPr/>
              <a:tblGrid>
                <a:gridCol w="1714320"/>
                <a:gridCol w="457200"/>
                <a:gridCol w="343080"/>
                <a:gridCol w="1866960"/>
                <a:gridCol w="533160"/>
                <a:gridCol w="419400"/>
                <a:gridCol w="1790640"/>
                <a:gridCol w="609480"/>
                <a:gridCol w="41904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treq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lingdots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w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et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xmi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ick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curly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x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sup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c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t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lyw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lerigh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led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parall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blebarw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pro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xd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epsi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e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qsl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three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x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ledd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ideon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erd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threeti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eqqg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setmin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lyv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binary 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95360" y="1447920"/>
          <a:ext cx="8153280" cy="4689360"/>
        </p:xfrm>
        <a:graphic>
          <a:graphicData uri="http://schemas.openxmlformats.org/drawingml/2006/table">
            <a:tbl>
              <a:tblPr/>
              <a:tblGrid>
                <a:gridCol w="1562040"/>
                <a:gridCol w="457200"/>
                <a:gridCol w="304920"/>
                <a:gridCol w="2514600"/>
                <a:gridCol w="304560"/>
                <a:gridCol w="304920"/>
                <a:gridCol w="1676520"/>
                <a:gridCol w="457200"/>
                <a:gridCol w="57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ledcir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eteq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le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seteq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l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lywedgeup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le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lywedgedown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lyveeup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se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lyveedown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u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s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s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pare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s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sl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rpare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less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greather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set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w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et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1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im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1676520"/>
          <a:ext cx="8153280" cy="4689360"/>
        </p:xfrm>
        <a:graphic>
          <a:graphicData uri="http://schemas.openxmlformats.org/drawingml/2006/table">
            <a:tbl>
              <a:tblPr/>
              <a:tblGrid>
                <a:gridCol w="1562040"/>
                <a:gridCol w="457200"/>
                <a:gridCol w="304920"/>
                <a:gridCol w="2514600"/>
                <a:gridCol w="304560"/>
                <a:gridCol w="304920"/>
                <a:gridCol w="1676520"/>
                <a:gridCol w="457200"/>
                <a:gridCol w="57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brac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rbrac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pare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rpare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ce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ce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rflo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b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ce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b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rce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cor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cor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cor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rcor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llob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1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728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ow 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447920"/>
          <a:ext cx="8343720" cy="5024160"/>
        </p:xfrm>
        <a:graphic>
          <a:graphicData uri="http://schemas.openxmlformats.org/drawingml/2006/table">
            <a:tbl>
              <a:tblPr/>
              <a:tblGrid>
                <a:gridCol w="2133360"/>
                <a:gridCol w="381240"/>
                <a:gridCol w="457200"/>
                <a:gridCol w="1676160"/>
                <a:gridCol w="304920"/>
                <a:gridCol w="457200"/>
                <a:gridCol w="2133720"/>
                <a:gridCol w="457200"/>
                <a:gridCol w="34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m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lefta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wn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wohead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wn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leftharpo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down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down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wnharpoon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sh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shlef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oklef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ef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harpoon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oparrow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wnharpoon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w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learrow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ok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vearrow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harpoon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harpoon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upa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rightsquig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wnharpoon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righta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righta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arrowt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vearrow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1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728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ow symbols and negated arrow 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04920" y="1447920"/>
          <a:ext cx="8267400" cy="5024160"/>
        </p:xfrm>
        <a:graphic>
          <a:graphicData uri="http://schemas.openxmlformats.org/drawingml/2006/table">
            <a:tbl>
              <a:tblPr/>
              <a:tblGrid>
                <a:gridCol w="2047320"/>
                <a:gridCol w="386280"/>
                <a:gridCol w="309240"/>
                <a:gridCol w="2395440"/>
                <a:gridCol w="308880"/>
                <a:gridCol w="309240"/>
                <a:gridCol w="1902600"/>
                <a:gridCol w="338040"/>
                <a:gridCol w="270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wndowna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eck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lef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squig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arrow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lefta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arrow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Lef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woheadlef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rightarrow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ftrightharpo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left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Left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wnharpoon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righta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ghtleftarr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oparrow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learrow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harpoon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righ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eftarr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1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gated binary re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5360" y="1447920"/>
          <a:ext cx="8153280" cy="5024160"/>
        </p:xfrm>
        <a:graphic>
          <a:graphicData uri="http://schemas.openxmlformats.org/drawingml/2006/table">
            <a:tbl>
              <a:tblPr/>
              <a:tblGrid>
                <a:gridCol w="1838160"/>
                <a:gridCol w="409680"/>
                <a:gridCol w="533520"/>
                <a:gridCol w="1752480"/>
                <a:gridCol w="457200"/>
                <a:gridCol w="380880"/>
                <a:gridCol w="1752840"/>
                <a:gridCol w="457200"/>
                <a:gridCol w="57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l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VD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u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l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upse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cn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vertn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supsetn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parall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pr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l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triangle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n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n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upset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#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n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setn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triangle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prec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leqsl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etn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(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n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subsetn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vd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n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geqsl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trianglelef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cn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n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subsetn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hortm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nappr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g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vD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c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g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ubsete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hortparall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vertn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setneq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ex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Point is a Powerpoint add-in that allows easy use of Latex symbols and formulas in Powerpoint present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raw.cs.berkeley.edu/texpo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details on how to use and install TexPo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can view this presentation even without having TexPoint instal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ever, some font tables will be wrong if you do not have the AMS fonts instal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14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0728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negated binary re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95360" y="1676520"/>
          <a:ext cx="8153280" cy="4579920"/>
        </p:xfrm>
        <a:graphic>
          <a:graphicData uri="http://schemas.openxmlformats.org/drawingml/2006/table">
            <a:tbl>
              <a:tblPr/>
              <a:tblGrid>
                <a:gridCol w="1838160"/>
                <a:gridCol w="409680"/>
                <a:gridCol w="533520"/>
                <a:gridCol w="1600200"/>
                <a:gridCol w="342720"/>
                <a:gridCol w="495360"/>
                <a:gridCol w="1905120"/>
                <a:gridCol w="457200"/>
                <a:gridCol w="57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ge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ne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ns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succe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o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vD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trianglerighte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odstmary10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setne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supsetneq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'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age: TexPoint can be used in inline or display 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line usag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wri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\alpha_0 \otimes \beta_{\approx1} \rightarrow^\alpha \Gam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s ALT-X-X and it turns int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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r you write \sum^n_{i=1} i^2  = x \and \forall y. y \geq 5 \implies \exists x. x \leq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ss ALT-X-X and it turns in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i=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.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x. 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play us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press ALT-X-D and you are prompted to edit standard Latex source for a displ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ce you have a display you can double click on it, or you can right-click on it. Try it on the display below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12880" y="5165640"/>
            <a:ext cx="38973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About Inline 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can do a lot of formatting without leaving the keybo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 \font{Arial}{\bf{a^{\underline{bc}}}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ns in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can define per-presentation initialization macros with argumen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 \newcommand{and}{0}{\wedge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 \newcommand{type}{3}{#1 \vdash #2 : #3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 \newcommand{union}{0}{\fontchr{Symbol}{201}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have access to almost all symbol macros that AMS Latex defin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acro arguments preserve their font st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 \type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{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l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{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 fo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 expands to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msy10"/>
              </a:rPr>
              <a:t>`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l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a fo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More About Display M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 can do anything that Latex can 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plays can be colored (using color Latex command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.. or can be made to blend on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plays can be processed as usual bitmaps (size, position, brightness, contrast) and in addition their Latex source can be chan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y can be copied and pasted even in other presentations since their Latex source is embedded in th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22640" y="3365640"/>
            <a:ext cx="3884400" cy="77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428920" y="1812960"/>
            <a:ext cx="38973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nt Mat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can read more about the usage and installation of TexPoint i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raw.cs.berkeley.edu/tex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Point comes with a set of four TrueType fonts that contain the glyphs for the standard Latex and AMS symbo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do not have to use these fonts since a few symbols are available in the Windows standard Symbol and MT Extra font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tell TexPoint whether it can use AMS fonts or whether it should try to find the symbol in the resident fo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few slides show the available symbols and the macros that expand to them. In each table the columns labeled T show the macro expansion if the AMS symbols are used and the column D shows the symbols from the default Windows fonts, when avail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520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eek lett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5360" y="1676520"/>
          <a:ext cx="8153280" cy="468936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609480"/>
                <a:gridCol w="1600200"/>
                <a:gridCol w="609480"/>
                <a:gridCol w="609840"/>
                <a:gridCol w="1447560"/>
                <a:gridCol w="685800"/>
                <a:gridCol w="685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p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psi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m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th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mb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l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mb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si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p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m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r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520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igraphic and blackboard capital let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28560" y="1523880"/>
          <a:ext cx="7886880" cy="5024520"/>
        </p:xfrm>
        <a:graphic>
          <a:graphicData uri="http://schemas.openxmlformats.org/drawingml/2006/table">
            <a:tbl>
              <a:tblPr/>
              <a:tblGrid>
                <a:gridCol w="952560"/>
                <a:gridCol w="457200"/>
                <a:gridCol w="380880"/>
                <a:gridCol w="838440"/>
                <a:gridCol w="685800"/>
                <a:gridCol w="609480"/>
                <a:gridCol w="990720"/>
                <a:gridCol w="533160"/>
                <a:gridCol w="457200"/>
                <a:gridCol w="990720"/>
                <a:gridCol w="476280"/>
                <a:gridCol w="514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b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 Macros Defined in TexPoint (3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52000"/>
            <a:ext cx="77724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scellaneous symb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5360" y="1676520"/>
          <a:ext cx="8153280" cy="5024160"/>
        </p:xfrm>
        <a:graphic>
          <a:graphicData uri="http://schemas.openxmlformats.org/drawingml/2006/table">
            <a:tbl>
              <a:tblPr/>
              <a:tblGrid>
                <a:gridCol w="1838160"/>
                <a:gridCol w="409680"/>
                <a:gridCol w="533520"/>
                <a:gridCol w="1600200"/>
                <a:gridCol w="342720"/>
                <a:gridCol w="495360"/>
                <a:gridCol w="1905120"/>
                <a:gridCol w="457200"/>
                <a:gridCol w="571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d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d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e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@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ty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m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monds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ades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h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d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d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le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b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l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b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x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@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not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ubs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artsu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~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acksqu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msy10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am10"/>
                        </a:rPr>
                        <a:t>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sbm10"/>
                        </a:rPr>
                        <a:t>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Necula</dc:creator>
  <dc:description/>
  <dc:language>en-US</dc:language>
  <cp:lastModifiedBy>George Necula</cp:lastModifiedBy>
  <dcterms:modified xsi:type="dcterms:W3CDTF">2003-07-12T21:03:32Z</dcterms:modified>
  <cp:revision>376</cp:revision>
  <dc:subject/>
  <dc:title>Math macros for Powerpoint</dc:title>
</cp:coreProperties>
</file>