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7290-3503-407B-94A5-82E0C0BF2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6CA2-423D-44F4-BE9C-FBBA141A9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5386-8E12-4654-B8BE-B7A7A6E32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A80A-6278-4D48-BB1B-43F01E050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0006-A453-4DE2-A55D-476EDF545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A7B7-1971-4DB7-AD80-ADA96471C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38B3-B4E7-4815-A9A4-498709E99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5FD7-1505-435F-A22E-1BF2F129B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AACC-C2C6-413B-8B20-F7D4B6C5C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7921-3C48-4D96-B098-96166358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0C37-8B6E-49BE-9DF4-D89C7E80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7F67-50CE-4AAA-88C5-5E179EB2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98E7E-A0B8-4EAF-BACD-28FEA50ADA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846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1890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exPoint 2.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1890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1890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is presentation contains only the source code for the TexPoint Add-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189000">
              <a:lnSpc>
                <a:spcPct val="100000"/>
              </a:lnSpc>
              <a:spcBef>
                <a:spcPts val="3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1890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f you experience problems with one of the compiled ppa files included in this TexPoint distribution, save this presentation as an Add-In (Save As…) in your main TexPoint directory and name it: TexPoint&lt;xxx&gt;.ppa , (&lt;xxx&gt; can be anything). Then install the Add-In as usu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18900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1890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o view the code press ALT-F11 and have fun with Visual Basic for 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4005360"/>
            <a:ext cx="8497800" cy="26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f you want to experiment making changes to the co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ake sure Tools/Macro/Security is set to Medium (or Low). Restart PP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Install Tex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Go to Tools/AddIns and unload TexPoint (do not remove it from the list). You must do this in order to run the version of TexPoint in this 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ake changes – but remember: The code contains more than 6K lines of VBA code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Run the macro Auto_Close followed by Auto_Open to load the chan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Optionally, you can save the presentation as an add-in (Save As…) and name it: TexPoint&lt;xxx&gt;.ppa , (&lt;xxx&gt; can be anyth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27160" y="3276720"/>
            <a:ext cx="703116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Andreas Glatz</dc:creator>
  <dc:description/>
  <dc:language>en-US</dc:language>
  <cp:lastModifiedBy>Office User</cp:lastModifiedBy>
  <dcterms:modified xsi:type="dcterms:W3CDTF">2005-10-18T02:37:51Z</dcterms:modified>
  <cp:revision>244</cp:revision>
  <dc:subject/>
  <dc:title>TexPoint 2.7</dc:title>
</cp:coreProperties>
</file>